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9C39-3374-4500-86D7-941C9D4B3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7001-F354-4B8D-B16F-792135135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272A-F50F-4FC5-A19F-AE9C5DC45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A37B-D114-4FFF-8326-CA224EB92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866B0-4266-4AAB-A529-407ADBC08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BC85F-16FF-46B0-9407-1445965B1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7AE3F-5FF1-4C82-ACAF-3426D853D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8B415-508E-46C2-BFE9-28311B593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69B39-EB19-4159-BF5E-E848D46BF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CE099-715A-45EA-838F-78001D9B6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80E30-76BA-44BA-9939-7B9BD6AEA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1FC1-0C7F-45DF-98B0-8813DBDE2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9B3EB-B91D-4E5E-B99E-AD0893133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1B583-6DB9-4FE0-84D4-F75E35B86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A9DFE-9E0E-46DC-B154-43B325D30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9C7C4-45B2-4DA4-85FC-9A5C11DB6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D2A21-296B-4BBB-894E-765E991AB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5C9B23-D60D-4424-A0E5-5D013F1DD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257D10-CB64-4D5B-8F0A-90A1AFC59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ACE70E-FE94-45C4-8214-A7DD430ED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4D44F7-87A5-4DAA-8B7A-639D43FDF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3734C7-2739-4485-92D9-1E9B37932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14FB-79BB-43DE-AF7E-8A3073A94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0036FF-1004-4F0E-87C0-AFDBD8C3E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334B1A-A705-4293-94E9-7197FDD78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FD8B76-F286-4151-9366-AB9F0EFAA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63F299-7296-4D49-86A8-3355B94E3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85F6B6-CB9F-461C-B615-7C4C3ADD7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814A8A-69A8-46C6-91E6-552C32B4B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C82906-EF9D-4AFC-8CE4-3884B3720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9731DC-F3E7-4B1F-82C2-127B46371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42DCCB-34B3-4A82-90EC-82CEC5EF8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2C3346-61F1-4D3A-894C-9F4ABFF7A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D375-9FD1-4493-9591-ED430FED6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5FF5DD-C0D3-40F4-96BE-281D4D061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B3578A-A879-425D-BA28-BB45DEFE7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3C68CB-6345-4A7D-A98C-B07292F8E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3D72A7-182E-4027-BE78-0ADD63DA1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51B2FD-C421-4AC8-BC4E-CF2E78A9A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860BDB-6840-40F9-8A8B-6331D0145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B43D82-9B67-45A5-8786-E88081810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84BB79-8525-47B6-8CC9-7507AD034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7E5DEA-EF32-4AE1-964B-60B4C2C4B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F472-368F-4768-B0A3-B49514562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F3FF-E563-4A9A-8E80-85CE6840E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AFD1-88C3-4280-B132-A7FEB4D5D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0777-F370-4757-ACD7-62CBB55FC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CAB0-1501-4DB9-83B3-B27F40F2A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D95D3-C1E9-48F5-9026-C967F1FE09EF}" type="slidenum"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42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4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84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1" name="Rectangle 8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2" name="Rectangle 113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5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6" name="Rectangle 80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97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8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9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00" name="Freeform 44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1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2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3" name="Freeform 50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" name="Freeform 51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" name="Hexagon 52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" name="Hexagon 53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7" name="Hexagon 54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8" name="Hexagon 55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9" name="Hexagon 56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" name="Freeform 57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" name="Hexagon 58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" name="Hexagon 59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" name="Hexagon 60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4" name="Hexagon 61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5" name="Hexagon 62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6" name="Hexagon 63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7" name="Hexagon 64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" name="Hexagon 65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" name="Hexagon 66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0" name="Freeform 67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1" name="Freeform 68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22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Rectangle 46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Rectangle 49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Rectangle 88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24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34C55-0F43-4D51-9228-1E563D831603}" type="slidenum">
              <a:rPr b="0" lang="el-GR" sz="1200" spc="-1" strike="noStrike">
                <a:solidFill>
                  <a:srgbClr val="94c6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168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83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80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5" name="Rectangle 81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6" name="Rectangle 82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9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80" name="Rectangle 79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81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2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3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84" name="Freeform 46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5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6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7" name="Freeform 49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8" name="Freeform 50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9" name="Hexagon 51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0" name="Hexagon 52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1" name="Hexagon 53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2" name="Hexagon 54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3" name="Hexagon 55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4" name="Freeform 58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5" name="Hexagon 59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6" name="Hexagon 61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7" name="Hexagon 62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8" name="Hexagon 63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9" name="Hexagon 64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0" name="Hexagon 65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1" name="Hexagon 66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2" name="Hexagon 67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3" name="Hexagon 68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4" name="Freeform 69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5" name="Freeform 70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06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Rectangle 56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Rectangle 57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Rectangle 60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C1AF7-7B38-4A92-8822-438E196B1FC9}" type="slidenum"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52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86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83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9" name="Rectangle 84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0" name="Rectangle 85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80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3" name="Rectangle 81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4" name="Rectangle 82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265" name="Rectangle 77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6" name="Rectangle 78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7" name="Rectangle 79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268" name="Freeform 45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9" name="Freeform 46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0" name="Freeform 47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1" name="Freeform 48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2" name="Freeform 49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3" name="Hexagon 50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4" name="Hexagon 5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5" name="Hexagon 59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6" name="Hexagon 60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Hexagon 61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62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Hexagon 63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Hexagon 64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Hexagon 65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Hexagon 66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Hexagon 67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Hexagon 68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Hexagon 69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Hexagon 70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Hexagon 71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8" name="Freeform 72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9" name="Freeform 73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90" name="Rectangle 9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Rectangle 10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Rectangle 101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Rectangle 104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E836D-4525-4657-A617-AAD4CA0FE400}" type="slidenum"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peri-grafis.com/spaw2/uploads/images/dali18.jpg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734000" y="2660400"/>
            <a:ext cx="3301920" cy="14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94c600"/>
                </a:solidFill>
                <a:latin typeface="Century Gothic"/>
              </a:rPr>
              <a:t>ΠΟΙΗΜΑΤΑ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36" name="Εικόνα 1" descr=""/>
          <p:cNvPicPr/>
          <p:nvPr/>
        </p:nvPicPr>
        <p:blipFill>
          <a:blip r:embed="rId1"/>
          <a:srcRect l="26972" t="0" r="26972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734000" y="4133880"/>
            <a:ext cx="330192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424242"/>
                </a:solidFill>
                <a:latin typeface="Arial"/>
                <a:ea typeface="Arial"/>
              </a:rPr>
              <a:t>Τρία Χαϊκού, Γ. Σεφέρης</a:t>
            </a: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734000" y="2660400"/>
            <a:ext cx="3301920" cy="14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en-US" sz="2800" spc="-1" strike="noStrike">
                <a:solidFill>
                  <a:srgbClr val="94c600"/>
                </a:solidFill>
                <a:latin typeface="Century Gothic"/>
              </a:rPr>
              <a:t>IA</a:t>
            </a:r>
            <a:r>
              <a:rPr b="0" lang="el-GR" sz="2800" spc="-1" strike="noStrike">
                <a:solidFill>
                  <a:srgbClr val="94c600"/>
                </a:solidFill>
                <a:latin typeface="Century Gothic"/>
              </a:rPr>
              <a:t>΄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39" name="Εικόνα 1" descr=""/>
          <p:cNvPicPr/>
          <p:nvPr/>
        </p:nvPicPr>
        <p:blipFill>
          <a:blip r:embed="rId1"/>
          <a:srcRect l="19494" t="0" r="19494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734000" y="4133880"/>
            <a:ext cx="330192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Πού να μαζεύεις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τα χίλια κομματάκια 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του κάθε ανθρώπου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734000" y="2660400"/>
            <a:ext cx="3301920" cy="14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94c600"/>
                </a:solidFill>
                <a:latin typeface="Century Gothic"/>
              </a:rPr>
              <a:t>ΙΕ΄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42" name="Εικόνα 1" descr=""/>
          <p:cNvPicPr/>
          <p:nvPr/>
        </p:nvPicPr>
        <p:blipFill>
          <a:blip r:embed="rId1"/>
          <a:srcRect l="26972" t="0" r="26972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734000" y="4133880"/>
            <a:ext cx="330192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424242"/>
                </a:solidFill>
                <a:latin typeface="Century Gothic"/>
              </a:rPr>
              <a:t> </a:t>
            </a: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Βουλιάζει ο κόσμος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κρατήσου, θα σ' αφήσει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μόνο στον ήλιο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835280" y="4869000"/>
            <a:ext cx="5486400" cy="49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94c600"/>
                </a:solidFill>
                <a:latin typeface="Century Gothic"/>
              </a:rPr>
              <a:t>         </a:t>
            </a:r>
            <a:br>
              <a:rPr sz="2500"/>
            </a:br>
            <a:r>
              <a:rPr b="0" lang="el-GR" sz="2500" spc="-1" strike="noStrike">
                <a:solidFill>
                  <a:srgbClr val="94c600"/>
                </a:solidFill>
                <a:latin typeface="Century Gothic"/>
              </a:rPr>
              <a:t>ΙΣΤ΄</a:t>
            </a:r>
            <a:endParaRPr b="0" lang="en-US" sz="25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45" name="Εικόνα 1" descr=""/>
          <p:cNvPicPr/>
          <p:nvPr/>
        </p:nvPicPr>
        <p:blipFill>
          <a:blip r:embed="rId1"/>
          <a:srcRect l="26972" t="0" r="26972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734000" y="4133880"/>
            <a:ext cx="330192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424242"/>
                </a:solidFill>
                <a:latin typeface="Century Gothic"/>
              </a:rPr>
              <a:t> </a:t>
            </a: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Γράφεις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το μελάνι λιγόστεψε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η θάλασσα πληθαίνει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 u="sng">
                <a:solidFill>
                  <a:srgbClr val="e68200"/>
                </a:solidFill>
                <a:uFillTx/>
                <a:latin typeface="Calibri"/>
                <a:hlinkClick r:id="rId1"/>
              </a:rPr>
              <a:t>http://www.peri-grafis.com/spaw2/uploads/images/dali18.jpg</a:t>
            </a:r>
            <a:endParaRPr b="0" lang="en-US" sz="2900" spc="-1" strike="noStrike">
              <a:solidFill>
                <a:srgbClr val="94c6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7T23:23:45Z</dcterms:created>
  <dc:creator>ΓΙΩΡΓΟΣ   ΔΕΣΠΟΙΝΑ</dc:creator>
  <dc:description/>
  <dc:language>en-US</dc:language>
  <cp:lastModifiedBy>giorgos</cp:lastModifiedBy>
  <dcterms:modified xsi:type="dcterms:W3CDTF">2012-03-25T17:17:28Z</dcterms:modified>
  <cp:revision>3</cp:revision>
  <dc:subject/>
  <dc:title>(πίνακας του Νταλί)</dc:title>
</cp:coreProperties>
</file>